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30-6A1A-4F5D-955D-5B43653A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365-4709-4DE4-8791-2F6C073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6CB1E-4DFA-4E04-B231-61062CBF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7B6E-2D3E-4E63-A3FC-D4084F37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2CEB-7A53-4211-82FA-14A18A6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DC761-E7F4-4B03-A50E-7364B24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D283-5B3C-4E6C-95E1-9151345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D74E-969B-4FAF-9E93-A667F430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3D4F-0E11-483F-B0A3-DE1722B1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A556B-6827-4131-B3F2-0C6859D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D2ED-CF75-4887-9E51-B1784AF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87EE-CD06-4B26-BC1C-A409364E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FF-DCA9-47E8-9F2F-394D268C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1FD8-98F0-4674-BBD7-DF30C3F0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6BDB-E235-49C3-AE10-C315D19C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E517-3D06-4558-A373-A0B08D27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A0BA-E9FB-4CA9-9836-D5EA255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E1EB-25A5-4929-AF0C-90518E2B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CBB9-0682-49AF-8069-9B12AF2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D1CA-4484-4433-92F2-85EFDFD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60CD-1B96-4A00-A18A-B25B9F6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F30F2-03DA-4BD0-B942-22B11D48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71A0-8504-4A5C-B223-60A03242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00D-0297-491C-8676-D7C9C9B2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EC90-6B53-491B-B2E7-14E065F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5F9B-6B63-4381-8FF2-FE2EC4E8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DE170-D87B-4D05-A68E-ED5F5D5E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3A0A-C3A5-4836-86EE-25DF5A27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AA15B-E1D8-4E66-B8FE-C55C25A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777C3-19FF-465B-BAC8-B8CD00A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EF51-A390-4884-892A-D5AFF55D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DDD2-5C4C-4D10-A29A-5EB7936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2DDC-1DDF-423E-A553-6968809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BDE06-55C6-4953-9183-BC16242E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3F04-9602-432D-AED1-E3F4974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4E609-7BDF-43D0-80AA-99E2CD92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876F-65BE-455E-83F5-26CCCF17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2C64-9DB0-4CC7-80DF-B706CD2E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99414-86A5-4CD8-94B7-4A103669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D844E-858E-400A-9472-5E57E12F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94CDD-1BA4-4E4C-AC02-52A1F693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DF690-81A8-4592-BC86-A8A66CF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3A779-85D4-411C-A5AD-CED8B4E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D545B-1DB8-424E-99EE-2BCFCE6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003A5-DFEE-48A5-B789-0EDFFD0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76C62-0202-467A-B775-967ADE0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8C714-32F1-4907-BBD0-6D3A5C4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7355-B34C-464A-91ED-990F02AC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E98B-0C6D-4F6A-BDD9-F790C7C4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2027B-52C7-4029-91AE-9B2117F0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C2925-B93B-4786-95D2-6EE0762C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63C8C-4322-4000-9266-065FD07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322FD-AF3E-4B8E-A971-8AAD1261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80038-9B3E-4274-A3C0-5E48A94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5955A-EEE9-46AA-865A-E8541F5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2E7F6-81AD-4B17-B370-236A374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E8DE1-A59E-49AA-9858-D11DCCE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7F1AE-C44E-4CD5-983A-245F28F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BB885-3F9E-4483-A57C-ADE6D9C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A099C-4375-45C1-85EF-3260EFEB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BBDBC-E7DE-498B-8735-78D677A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19A1-0BED-4BC4-B2DB-BBDFD516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13ECA-8404-4867-96DA-02431AB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A13F8-7E53-41D9-A1E8-C25BF882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E8A64-A773-4DCE-BE6B-DDCE9914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EAB26-CE1D-4EAE-BB61-FE20BA20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2310-A76A-417D-BB43-79047CD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68A1E-CE1A-4437-A50A-7725946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40378-395D-474F-AA63-E886087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4A720-58A5-48A0-8BD3-7D25C98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1F79-FC63-472C-A6D1-86A9699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02CAA-6F0A-4039-B20E-C7DB232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3532B-F52F-4076-8A9F-F5D447FC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8AE-7B07-4E02-A26F-365AE53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134-0E4F-48E7-995D-8739E060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6AE-1A87-4A49-B4EA-26A2C43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BCB8-3526-4207-85D9-F2F7987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71F7-8A38-4D3B-9707-F24E063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841-2DC1-437B-B1EF-0CD486C2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7E6-20E1-4F39-90AA-077D6D0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B262-1FAE-4718-85A1-91B1AF2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BB1-A36A-4CCC-9A75-4065B48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7FD-0D11-444A-8F35-048556A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A63A-243B-491F-AE2F-5CAEE19A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6AA-0933-4FF5-AEEE-F40DEFC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A0F-4269-43F1-8B7C-A51986BA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628F-9054-4F3F-B4A2-10507A21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0C2-9FE0-42B7-96C4-54FA5C0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1C1-0222-4FCD-A5BD-E4EFB77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880-F058-454B-A311-EA754D3B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ADAC-0651-468A-82A2-81404636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09C1-304E-43C8-A0CB-F586BAC1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BBF6-9181-4F88-952F-50B2C5C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206E-F371-4A02-8A7A-1A33D997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6A3D-1DC1-4C8F-8E3D-6C4DBFB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EF16-5064-40B5-B4B9-41C5962C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0E8F-6FBE-4924-AAB5-FDC96A4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F6AE-1F76-4897-9AC0-BC55FCE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3912-B0AC-44CD-80FB-BDD1EA3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E09-3629-4B48-81F8-569424D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4D8E-C067-415F-BC58-3A2C87C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554E-A92D-4951-920B-51CD7394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187A-5E2F-410A-907A-835461F6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D02E-CA7F-4DB9-90EE-6F2F06F9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73C7-E908-4D01-A679-485F951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5EFD-CF5D-4451-942A-6F337F8F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F528-BE8F-411B-B649-561AD60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46CD-161A-4A5F-82D3-4356F9E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B396-2B7B-4CA1-BCE9-907C1FF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603A-743D-4B40-A251-C7AECFB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A46-9133-43A0-B56A-84753DE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2345-52BF-42E6-9281-B80F30D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BF56-0D45-4DBB-ABF4-3091B72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0959-34A2-4D3D-93E6-0557718C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2E76-D30C-43CD-BD72-8FB62A82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C79C-063C-482C-B3B9-514EEFC4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7F58-B4D3-4679-B1C6-3D601401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F0A8-5A8C-45C9-9509-29F1CE7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A19C-77A5-41EE-85FE-F8F90C7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0B98D-863B-4ADC-9028-617C563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3FCC-9E26-4C19-BE88-974326F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656-6EA8-4E90-9617-14CDA75E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FF92-AADF-4413-8DAD-19AA373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4869-7372-4A5B-8C78-40259B8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67AA-A694-491A-878C-1FBBA80D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19B9-EE4E-4907-8986-D2EB10E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256C-978D-420C-BC0C-5C7883A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7E4C-A1EA-4463-9EC9-E1D26099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013E-B868-49A2-92C8-EA603E72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A7B4-DDD0-4FE1-A646-10BC2DA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AF63D-B05F-4930-B3AB-33E80A6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5B7C-8617-4D6B-BA8B-51C12195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A9F9-9ECA-4FDB-9819-57B4D2E9E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A58F-DDE2-40BF-B5B0-EFD3F6519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8A0-8A62-4BF8-8099-2CFC5E371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0F9-4C68-4F9B-8C19-9A484DC902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9B83-46AE-45E2-9EBC-868F20DE3C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113" h="6400800">
                <a:moveTo>
                  <a:pt x="767557" y="0"/>
                </a:moveTo>
                <a:lnTo>
                  <a:pt x="767557" y="0"/>
                </a:lnTo>
                <a:cubicBezTo>
                  <a:pt x="1191467" y="0"/>
                  <a:pt x="1535114" y="343647"/>
                  <a:pt x="1535114" y="767557"/>
                </a:cubicBezTo>
                <a:cubicBezTo>
                  <a:pt x="1535114" y="2645305"/>
                  <a:pt x="1535113" y="4523052"/>
                  <a:pt x="1535113" y="6400800"/>
                </a:cubicBezTo>
                <a:lnTo>
                  <a:pt x="1535113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557"/>
                </a:lnTo>
                <a:cubicBezTo>
                  <a:pt x="0" y="343647"/>
                  <a:pt x="343647" y="0"/>
                  <a:pt x="767557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1D6-14B1-464A-91DB-2E51021C5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2AE-A95D-4498-BE2E-FC30192EE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040"/>
              <a:ext cx="2014560" cy="1892160"/>
              <a:chOff x="2741400" y="-932040"/>
              <a:chExt cx="2014560" cy="189216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560" y="-834840"/>
                <a:ext cx="1452240" cy="1671840"/>
              </a:xfrm>
              <a:custGeom>
                <a:avLst/>
                <a:gdLst/>
                <a:ahLst/>
                <a:rect l="l" t="t" r="r" b="b"/>
                <a:pathLst>
                  <a:path stroke="0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  <a:lnTo>
                      <a:pt x="726430" y="835541"/>
                    </a:lnTo>
                    <a:lnTo>
                      <a:pt x="485387" y="47339"/>
                    </a:lnTo>
                    <a:close/>
                  </a:path>
                  <a:path fill="none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7680" y="317520"/>
                <a:ext cx="757440" cy="64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1080" y="15696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7680" y="-1206000"/>
              <a:ext cx="4192560" cy="2355840"/>
              <a:chOff x="3217680" y="-1206000"/>
              <a:chExt cx="419256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320" y="-776160"/>
                <a:ext cx="3198240" cy="152100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5760" y="13032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60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732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FE4-5730-48FB-B550-BE2C7A8F3B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FA43-5843-40D7-8CC8-11EBC74A0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6BB-3F56-4875-AE22-94287C4EF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C48-58E8-4B4F-8A42-F05852AF2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6-2 2nd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scríbelo- test review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t irregs, demos adj, ordinal #’s, location word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nfinitive verbs are part of the “u” group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oner, poder, tener, estar, saber, and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irregular stems for those verb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us, pud, tuv, estuv, sup, anduv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member the song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et’s sing it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“Zorro” ending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é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mo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i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ó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ó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eron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mos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mo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steis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i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ron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eron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8" name="Freeform 7"/>
          <p:cNvSpPr/>
          <p:nvPr/>
        </p:nvSpPr>
        <p:spPr>
          <a:xfrm>
            <a:off x="1228680" y="3767040"/>
            <a:ext cx="1855800" cy="2729160"/>
          </a:xfrm>
          <a:custGeom>
            <a:avLst/>
            <a:gdLst/>
            <a:ahLst/>
            <a:rect l="l" t="t" r="r" b="b"/>
            <a:pathLst>
              <a:path w="1856095" h="2729552">
                <a:moveTo>
                  <a:pt x="0" y="0"/>
                </a:moveTo>
                <a:cubicBezTo>
                  <a:pt x="18197" y="22746"/>
                  <a:pt x="31287" y="50761"/>
                  <a:pt x="54591" y="68239"/>
                </a:cubicBezTo>
                <a:cubicBezTo>
                  <a:pt x="69597" y="79493"/>
                  <a:pt x="91216" y="76497"/>
                  <a:pt x="109182" y="81887"/>
                </a:cubicBezTo>
                <a:cubicBezTo>
                  <a:pt x="136740" y="90154"/>
                  <a:pt x="163155" y="102204"/>
                  <a:pt x="191068" y="109182"/>
                </a:cubicBezTo>
                <a:cubicBezTo>
                  <a:pt x="209265" y="113731"/>
                  <a:pt x="227693" y="117440"/>
                  <a:pt x="245659" y="122830"/>
                </a:cubicBezTo>
                <a:cubicBezTo>
                  <a:pt x="245706" y="122844"/>
                  <a:pt x="347994" y="156941"/>
                  <a:pt x="368489" y="163773"/>
                </a:cubicBezTo>
                <a:cubicBezTo>
                  <a:pt x="506048" y="209627"/>
                  <a:pt x="292704" y="139674"/>
                  <a:pt x="464023" y="191069"/>
                </a:cubicBezTo>
                <a:cubicBezTo>
                  <a:pt x="491582" y="199337"/>
                  <a:pt x="545910" y="218364"/>
                  <a:pt x="545910" y="218364"/>
                </a:cubicBezTo>
                <a:cubicBezTo>
                  <a:pt x="559558" y="227463"/>
                  <a:pt x="571864" y="238998"/>
                  <a:pt x="586853" y="245660"/>
                </a:cubicBezTo>
                <a:cubicBezTo>
                  <a:pt x="613145" y="257345"/>
                  <a:pt x="641444" y="263857"/>
                  <a:pt x="668740" y="272955"/>
                </a:cubicBezTo>
                <a:cubicBezTo>
                  <a:pt x="682388" y="277504"/>
                  <a:pt x="695442" y="284568"/>
                  <a:pt x="709683" y="286603"/>
                </a:cubicBezTo>
                <a:lnTo>
                  <a:pt x="805217" y="300251"/>
                </a:lnTo>
                <a:cubicBezTo>
                  <a:pt x="1051260" y="338104"/>
                  <a:pt x="705769" y="287995"/>
                  <a:pt x="982638" y="327546"/>
                </a:cubicBezTo>
                <a:cubicBezTo>
                  <a:pt x="1148089" y="382697"/>
                  <a:pt x="981024" y="331738"/>
                  <a:pt x="1146411" y="368490"/>
                </a:cubicBezTo>
                <a:cubicBezTo>
                  <a:pt x="1160455" y="371611"/>
                  <a:pt x="1173522" y="378185"/>
                  <a:pt x="1187355" y="382137"/>
                </a:cubicBezTo>
                <a:cubicBezTo>
                  <a:pt x="1205390" y="387290"/>
                  <a:pt x="1223911" y="390632"/>
                  <a:pt x="1241946" y="395785"/>
                </a:cubicBezTo>
                <a:cubicBezTo>
                  <a:pt x="1255778" y="399737"/>
                  <a:pt x="1268933" y="405944"/>
                  <a:pt x="1282889" y="409433"/>
                </a:cubicBezTo>
                <a:cubicBezTo>
                  <a:pt x="1305393" y="415059"/>
                  <a:pt x="1328749" y="416978"/>
                  <a:pt x="1351128" y="423081"/>
                </a:cubicBezTo>
                <a:cubicBezTo>
                  <a:pt x="1378886" y="430651"/>
                  <a:pt x="1405101" y="443398"/>
                  <a:pt x="1433014" y="450376"/>
                </a:cubicBezTo>
                <a:lnTo>
                  <a:pt x="1487605" y="464024"/>
                </a:lnTo>
                <a:cubicBezTo>
                  <a:pt x="1469408" y="473122"/>
                  <a:pt x="1451714" y="483305"/>
                  <a:pt x="1433014" y="491319"/>
                </a:cubicBezTo>
                <a:cubicBezTo>
                  <a:pt x="1419791" y="496986"/>
                  <a:pt x="1404647" y="497981"/>
                  <a:pt x="1392071" y="504967"/>
                </a:cubicBezTo>
                <a:cubicBezTo>
                  <a:pt x="1363394" y="520899"/>
                  <a:pt x="1337480" y="541361"/>
                  <a:pt x="1310185" y="559558"/>
                </a:cubicBezTo>
                <a:lnTo>
                  <a:pt x="1269241" y="586854"/>
                </a:lnTo>
                <a:lnTo>
                  <a:pt x="1228298" y="614149"/>
                </a:lnTo>
                <a:cubicBezTo>
                  <a:pt x="1214650" y="623248"/>
                  <a:pt x="1203726" y="640422"/>
                  <a:pt x="1187355" y="641445"/>
                </a:cubicBezTo>
                <a:lnTo>
                  <a:pt x="968991" y="655093"/>
                </a:lnTo>
                <a:cubicBezTo>
                  <a:pt x="941695" y="664191"/>
                  <a:pt x="911044" y="666428"/>
                  <a:pt x="887104" y="682388"/>
                </a:cubicBezTo>
                <a:cubicBezTo>
                  <a:pt x="873456" y="691487"/>
                  <a:pt x="861150" y="703022"/>
                  <a:pt x="846161" y="709684"/>
                </a:cubicBezTo>
                <a:cubicBezTo>
                  <a:pt x="819869" y="721369"/>
                  <a:pt x="791570" y="727881"/>
                  <a:pt x="764274" y="736979"/>
                </a:cubicBezTo>
                <a:lnTo>
                  <a:pt x="723331" y="750627"/>
                </a:lnTo>
                <a:lnTo>
                  <a:pt x="641444" y="777922"/>
                </a:lnTo>
                <a:cubicBezTo>
                  <a:pt x="628593" y="781135"/>
                  <a:pt x="561930" y="796318"/>
                  <a:pt x="545910" y="805218"/>
                </a:cubicBezTo>
                <a:cubicBezTo>
                  <a:pt x="517233" y="821150"/>
                  <a:pt x="495145" y="849435"/>
                  <a:pt x="464023" y="859809"/>
                </a:cubicBezTo>
                <a:cubicBezTo>
                  <a:pt x="436728" y="868908"/>
                  <a:pt x="406077" y="871145"/>
                  <a:pt x="382137" y="887105"/>
                </a:cubicBezTo>
                <a:cubicBezTo>
                  <a:pt x="368489" y="896203"/>
                  <a:pt x="356871" y="909576"/>
                  <a:pt x="341194" y="914400"/>
                </a:cubicBezTo>
                <a:cubicBezTo>
                  <a:pt x="296852" y="928044"/>
                  <a:pt x="250209" y="932598"/>
                  <a:pt x="204716" y="941696"/>
                </a:cubicBezTo>
                <a:cubicBezTo>
                  <a:pt x="104951" y="961649"/>
                  <a:pt x="159417" y="952066"/>
                  <a:pt x="40943" y="968991"/>
                </a:cubicBezTo>
                <a:cubicBezTo>
                  <a:pt x="27295" y="973540"/>
                  <a:pt x="0" y="968253"/>
                  <a:pt x="0" y="982639"/>
                </a:cubicBezTo>
                <a:cubicBezTo>
                  <a:pt x="0" y="1002194"/>
                  <a:pt x="71790" y="1018534"/>
                  <a:pt x="81886" y="1023582"/>
                </a:cubicBezTo>
                <a:cubicBezTo>
                  <a:pt x="96557" y="1030918"/>
                  <a:pt x="107753" y="1044417"/>
                  <a:pt x="122829" y="1050878"/>
                </a:cubicBezTo>
                <a:cubicBezTo>
                  <a:pt x="176237" y="1073767"/>
                  <a:pt x="204257" y="1055120"/>
                  <a:pt x="259307" y="1091821"/>
                </a:cubicBezTo>
                <a:cubicBezTo>
                  <a:pt x="272955" y="1100920"/>
                  <a:pt x="285174" y="1112656"/>
                  <a:pt x="300250" y="1119117"/>
                </a:cubicBezTo>
                <a:cubicBezTo>
                  <a:pt x="326157" y="1130220"/>
                  <a:pt x="418262" y="1143334"/>
                  <a:pt x="436728" y="1146412"/>
                </a:cubicBezTo>
                <a:cubicBezTo>
                  <a:pt x="520909" y="1188503"/>
                  <a:pt x="461288" y="1164677"/>
                  <a:pt x="559558" y="1187355"/>
                </a:cubicBezTo>
                <a:cubicBezTo>
                  <a:pt x="596111" y="1195790"/>
                  <a:pt x="668740" y="1214651"/>
                  <a:pt x="668740" y="1214651"/>
                </a:cubicBezTo>
                <a:cubicBezTo>
                  <a:pt x="682388" y="1223749"/>
                  <a:pt x="695012" y="1234611"/>
                  <a:pt x="709683" y="1241946"/>
                </a:cubicBezTo>
                <a:cubicBezTo>
                  <a:pt x="745099" y="1259654"/>
                  <a:pt x="797565" y="1262252"/>
                  <a:pt x="832513" y="1269242"/>
                </a:cubicBezTo>
                <a:cubicBezTo>
                  <a:pt x="850906" y="1272921"/>
                  <a:pt x="868447" y="1280960"/>
                  <a:pt x="887104" y="1282890"/>
                </a:cubicBezTo>
                <a:cubicBezTo>
                  <a:pt x="1000593" y="1294630"/>
                  <a:pt x="1228298" y="1310185"/>
                  <a:pt x="1228298" y="1310185"/>
                </a:cubicBezTo>
                <a:cubicBezTo>
                  <a:pt x="1352513" y="1351591"/>
                  <a:pt x="1156346" y="1288081"/>
                  <a:pt x="1337480" y="1337481"/>
                </a:cubicBezTo>
                <a:cubicBezTo>
                  <a:pt x="1385223" y="1350502"/>
                  <a:pt x="1431424" y="1366551"/>
                  <a:pt x="1473958" y="1392072"/>
                </a:cubicBezTo>
                <a:cubicBezTo>
                  <a:pt x="1502088" y="1408950"/>
                  <a:pt x="1532647" y="1423467"/>
                  <a:pt x="1555844" y="1446663"/>
                </a:cubicBezTo>
                <a:lnTo>
                  <a:pt x="1637731" y="1528549"/>
                </a:lnTo>
                <a:cubicBezTo>
                  <a:pt x="1658852" y="1591913"/>
                  <a:pt x="1660201" y="1602392"/>
                  <a:pt x="1705970" y="1678675"/>
                </a:cubicBezTo>
                <a:cubicBezTo>
                  <a:pt x="1719618" y="1701421"/>
                  <a:pt x="1735050" y="1723188"/>
                  <a:pt x="1746913" y="1746914"/>
                </a:cubicBezTo>
                <a:cubicBezTo>
                  <a:pt x="1757869" y="1768826"/>
                  <a:pt x="1763252" y="1793240"/>
                  <a:pt x="1774208" y="1815152"/>
                </a:cubicBezTo>
                <a:cubicBezTo>
                  <a:pt x="1827123" y="1920982"/>
                  <a:pt x="1780847" y="1794125"/>
                  <a:pt x="1815152" y="1897039"/>
                </a:cubicBezTo>
                <a:cubicBezTo>
                  <a:pt x="1810603" y="1928884"/>
                  <a:pt x="1809968" y="1961539"/>
                  <a:pt x="1801504" y="1992573"/>
                </a:cubicBezTo>
                <a:cubicBezTo>
                  <a:pt x="1796151" y="2012201"/>
                  <a:pt x="1781352" y="2028114"/>
                  <a:pt x="1774208" y="2047164"/>
                </a:cubicBezTo>
                <a:cubicBezTo>
                  <a:pt x="1767622" y="2064727"/>
                  <a:pt x="1765951" y="2083789"/>
                  <a:pt x="1760561" y="2101755"/>
                </a:cubicBezTo>
                <a:cubicBezTo>
                  <a:pt x="1719001" y="2240289"/>
                  <a:pt x="1744493" y="2127501"/>
                  <a:pt x="1719617" y="2251881"/>
                </a:cubicBezTo>
                <a:cubicBezTo>
                  <a:pt x="1724166" y="2329218"/>
                  <a:pt x="1725556" y="2406806"/>
                  <a:pt x="1733265" y="2483893"/>
                </a:cubicBezTo>
                <a:cubicBezTo>
                  <a:pt x="1737553" y="2526771"/>
                  <a:pt x="1755519" y="2528402"/>
                  <a:pt x="1774208" y="2565779"/>
                </a:cubicBezTo>
                <a:cubicBezTo>
                  <a:pt x="1785164" y="2587691"/>
                  <a:pt x="1790548" y="2612106"/>
                  <a:pt x="1801504" y="2634018"/>
                </a:cubicBezTo>
                <a:cubicBezTo>
                  <a:pt x="1813367" y="2657744"/>
                  <a:pt x="1829286" y="2679226"/>
                  <a:pt x="1842447" y="2702257"/>
                </a:cubicBezTo>
                <a:cubicBezTo>
                  <a:pt x="1847494" y="2711089"/>
                  <a:pt x="1851546" y="2720454"/>
                  <a:pt x="1856095" y="2729552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Right Arrow 8"/>
          <p:cNvSpPr/>
          <p:nvPr/>
        </p:nvSpPr>
        <p:spPr>
          <a:xfrm>
            <a:off x="3352680" y="39625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523b4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e could sing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sotros pudimos cant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rooster was inside the pe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l gallo estuvo dentro del corral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u (sing/fam) had to practic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ú tuviste que practica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u (plural/familiar) rode bikes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Vosotros anduvisteis en biciclet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terday my younger brother set the tabl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yer mi hermano menor puso la mes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 knew it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¡Yo lo supe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3 ways to write ‘this’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, esta, est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Las reglas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Everybody gets a whiteboard/marker/eraser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ra. puts up a question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Write your answer fast- turn your board upside down/or cover it- marker down!!!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ay  uno/dos/tres etc. (talk softly)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Whoever gets it correct first 2 pts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Everybody else 1pt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If the person who said uno isn</a:t>
            </a:r>
            <a:r>
              <a:rPr b="0" lang="ja-JP" sz="17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t correct- check dos etc.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it mean when we use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, esto, and aquello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ueter- (when they end in “O” we don’t know!....the gender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Spanish this and these have ______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3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T’s</a:t>
            </a:r>
            <a:endParaRPr b="0" lang="en-US" sz="9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book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 libr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se hen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as gallin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1" dur="2000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bul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e tor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llamas-far awa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quellas llam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’s that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¿Qué es eso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one masc.- far awa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qué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ones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és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one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ést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verbs make up the 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s locos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roup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r, ser, dar &amp; v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pig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s cerdo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p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rib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utside of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uera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ow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j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nderneath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bajo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 top of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cima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écim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ich two numbers do you drop the “o” before a masc. singular noun?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1 and 3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ero   tercero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er      tercer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ny of the above answers is good.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éptim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jugations for ir &amp; s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838080" y="3581280"/>
          <a:ext cx="6629400" cy="198144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ste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e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ven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conjugations for dar and v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1447920" y="3657600"/>
          <a:ext cx="6095880" cy="2133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/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mos/vi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ste/v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steis/viste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o/v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eron/vie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e saw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Él vi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e gav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sotros dimo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 saw 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 lo vi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gave you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llos te dier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8:17:58Z</dcterms:created>
  <dc:creator>Coffman, Kristie</dc:creator>
  <dc:description/>
  <dc:language>en-US</dc:language>
  <cp:lastModifiedBy>Prine, Stephanie</cp:lastModifiedBy>
  <dcterms:modified xsi:type="dcterms:W3CDTF">2016-04-25T15:58:44Z</dcterms:modified>
  <cp:revision>16</cp:revision>
  <dc:subject/>
  <dc:title>6-2 2nd</dc:title>
</cp:coreProperties>
</file>